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DC71-A641-418C-99E7-0C499578B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BD43-665D-4ED2-990E-137A0C20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8BD8-F59D-48CF-AC97-5883ACBC6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0A4C-FA9F-4A19-B0F1-4789F4E0C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27DE-75CD-414A-B73D-000DC912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F0CD-72DD-4C71-B8B7-FA55D24B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D922-9A65-4838-81F6-4E537B8D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D9DC-6A89-4F0E-9F65-42839695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AAA5-F754-4868-B97C-2AD03E89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F6AB-EADD-4D9C-A416-7E54928D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D010-E36C-41CC-ACD3-02D92AD8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47A3-C367-4A9C-9DAC-C107CC68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1E4E-AD5B-4B8E-83EF-3931D3F56C7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rcRect l="0" t="0" r="0" b="62049"/>
          <a:stretch/>
        </p:blipFill>
        <p:spPr>
          <a:xfrm>
            <a:off x="250920" y="312840"/>
            <a:ext cx="8642160" cy="1460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2"/>
          <a:srcRect l="26479" t="42078" r="25493" b="0"/>
          <a:stretch/>
        </p:blipFill>
        <p:spPr>
          <a:xfrm>
            <a:off x="250920" y="2565360"/>
            <a:ext cx="842472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عنوان 1"/>
          <p:cNvSpPr/>
          <p:nvPr/>
        </p:nvSpPr>
        <p:spPr>
          <a:xfrm>
            <a:off x="200160" y="907920"/>
            <a:ext cx="877068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تعريف التفسي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عنوان 1"/>
          <p:cNvSpPr/>
          <p:nvPr/>
        </p:nvSpPr>
        <p:spPr>
          <a:xfrm>
            <a:off x="179280" y="1430280"/>
            <a:ext cx="876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84240" indent="-984240" algn="r" rtl="1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غة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كشف والبيان والإظها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179280" y="1989000"/>
            <a:ext cx="876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84240" indent="-984240" algn="r" rtl="1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صطلاحاً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يان معاني القرآن الكري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50920" y="2637000"/>
            <a:ext cx="877068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 التأوي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-36360" y="20520"/>
            <a:ext cx="9144000" cy="74448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195120" y="3130560"/>
            <a:ext cx="876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84240" indent="-984240" algn="r" rtl="1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غة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رجوع إلى الأص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195120" y="3546360"/>
            <a:ext cx="876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84240" indent="-984240" algn="ctr" rtl="1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صطلاحاً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رابط مستقيم 11"/>
          <p:cNvSpPr/>
          <p:nvPr/>
        </p:nvSpPr>
        <p:spPr>
          <a:xfrm flipH="1">
            <a:off x="4571640" y="405144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2"/>
          <p:cNvSpPr/>
          <p:nvPr/>
        </p:nvSpPr>
        <p:spPr>
          <a:xfrm flipH="1" flipV="1">
            <a:off x="1476000" y="4287600"/>
            <a:ext cx="6048360" cy="14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24000" y="4584600"/>
            <a:ext cx="2087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نفس المراد بالك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>
            <a:off x="7524360" y="432396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5940360" y="4595760"/>
            <a:ext cx="2952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فسير الكلام وبيان معنا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رابط كسهم مستقيم 23"/>
          <p:cNvCxnSpPr/>
          <p:nvPr/>
        </p:nvCxnSpPr>
        <p:spPr>
          <a:xfrm>
            <a:off x="1476000" y="42879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عنوان 1"/>
          <p:cNvSpPr/>
          <p:nvPr/>
        </p:nvSpPr>
        <p:spPr>
          <a:xfrm>
            <a:off x="5651640" y="5440320"/>
            <a:ext cx="324144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ومنه : دعائه لابن عباس </a:t>
            </a:r>
            <a:r>
              <a:rPr b="1" lang="ar-SA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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((اللهم فقه في الدين وعلمه التأويل)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رابط كسهم مستقيم 27"/>
          <p:cNvCxnSpPr/>
          <p:nvPr/>
        </p:nvCxnSpPr>
        <p:spPr>
          <a:xfrm>
            <a:off x="7524360" y="508428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عنوان 1"/>
          <p:cNvSpPr/>
          <p:nvPr/>
        </p:nvSpPr>
        <p:spPr>
          <a:xfrm>
            <a:off x="3419640" y="5586480"/>
            <a:ext cx="8571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طل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31"/>
          <p:cNvCxnSpPr/>
          <p:nvPr/>
        </p:nvCxnSpPr>
        <p:spPr>
          <a:xfrm>
            <a:off x="3924000" y="5229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رابط مستقيم 32"/>
          <p:cNvSpPr/>
          <p:nvPr/>
        </p:nvSpPr>
        <p:spPr>
          <a:xfrm flipH="1">
            <a:off x="1476000" y="49784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رابط مستقيم 33"/>
          <p:cNvSpPr/>
          <p:nvPr/>
        </p:nvSpPr>
        <p:spPr>
          <a:xfrm flipH="1">
            <a:off x="610920" y="5229360"/>
            <a:ext cx="33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34"/>
          <p:cNvCxnSpPr/>
          <p:nvPr/>
        </p:nvCxnSpPr>
        <p:spPr>
          <a:xfrm>
            <a:off x="610920" y="5229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8840" y="5589720"/>
            <a:ext cx="8571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خب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رابط كسهم مستقيم 38"/>
          <p:cNvCxnSpPr/>
          <p:nvPr/>
        </p:nvCxnSpPr>
        <p:spPr>
          <a:xfrm>
            <a:off x="3924000" y="595008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رابط كسهم مستقيم 39"/>
          <p:cNvCxnSpPr/>
          <p:nvPr/>
        </p:nvCxnSpPr>
        <p:spPr>
          <a:xfrm>
            <a:off x="755280" y="595008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عنوان 1"/>
          <p:cNvSpPr/>
          <p:nvPr/>
        </p:nvSpPr>
        <p:spPr>
          <a:xfrm>
            <a:off x="2843280" y="6378480"/>
            <a:ext cx="2089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تأويله فعل المطلو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08000" y="6381720"/>
            <a:ext cx="2303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تأويله وقوع المخبر ب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-36360" y="44280"/>
            <a:ext cx="9144000" cy="744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8761680" cy="612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عنوان 1"/>
          <p:cNvSpPr/>
          <p:nvPr/>
        </p:nvSpPr>
        <p:spPr>
          <a:xfrm>
            <a:off x="200160" y="907920"/>
            <a:ext cx="877068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فرق بين التفسير والتأويل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(باعتبار المعنى الثاني للتأويل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-36360" y="20520"/>
            <a:ext cx="9144000" cy="744480"/>
          </a:xfrm>
          <a:prstGeom prst="rect">
            <a:avLst/>
          </a:prstGeom>
          <a:ln w="0">
            <a:noFill/>
          </a:ln>
        </p:spPr>
      </p:pic>
      <p:sp>
        <p:nvSpPr>
          <p:cNvPr id="76" name="رابط مستقيم 11"/>
          <p:cNvSpPr/>
          <p:nvPr/>
        </p:nvSpPr>
        <p:spPr>
          <a:xfrm flipH="1">
            <a:off x="4571640" y="134136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رابط مستقيم 12"/>
          <p:cNvSpPr/>
          <p:nvPr/>
        </p:nvSpPr>
        <p:spPr>
          <a:xfrm flipH="1" flipV="1">
            <a:off x="1476000" y="1577880"/>
            <a:ext cx="604836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324000" y="1874880"/>
            <a:ext cx="20872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أوي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رابط كسهم مستقيم 17"/>
          <p:cNvCxnSpPr/>
          <p:nvPr/>
        </p:nvCxnSpPr>
        <p:spPr>
          <a:xfrm>
            <a:off x="7524360" y="161460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عنوان 1"/>
          <p:cNvSpPr/>
          <p:nvPr/>
        </p:nvSpPr>
        <p:spPr>
          <a:xfrm>
            <a:off x="5940360" y="1886040"/>
            <a:ext cx="2952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" name="رابط كسهم مستقيم 23"/>
          <p:cNvCxnSpPr/>
          <p:nvPr/>
        </p:nvCxnSpPr>
        <p:spPr>
          <a:xfrm>
            <a:off x="1476000" y="157788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عنوان 1"/>
          <p:cNvSpPr/>
          <p:nvPr/>
        </p:nvSpPr>
        <p:spPr>
          <a:xfrm>
            <a:off x="5435640" y="2730600"/>
            <a:ext cx="345744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شرح وبيان للكلام المرا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كثر ما يستعمل في الألفا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رابط كسهم مستقيم 27"/>
          <p:cNvCxnSpPr/>
          <p:nvPr/>
        </p:nvCxnSpPr>
        <p:spPr>
          <a:xfrm>
            <a:off x="7524360" y="237456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" name="عنوان 1"/>
          <p:cNvSpPr/>
          <p:nvPr/>
        </p:nvSpPr>
        <p:spPr>
          <a:xfrm>
            <a:off x="250920" y="2703600"/>
            <a:ext cx="424980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حقيقة الكلام كقوله تعالى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كثر ما يستعمل في المعان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رابط كسهم مستقيم 35"/>
          <p:cNvCxnSpPr/>
          <p:nvPr/>
        </p:nvCxnSpPr>
        <p:spPr>
          <a:xfrm>
            <a:off x="1402920" y="2349000"/>
            <a:ext cx="1080" cy="28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179280" y="3213000"/>
            <a:ext cx="43563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44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843280" cy="677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3"/>
          <a:stretch/>
        </p:blipFill>
        <p:spPr>
          <a:xfrm>
            <a:off x="108000" y="836640"/>
            <a:ext cx="8926560" cy="129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258840" y="2276640"/>
          <a:ext cx="8680320" cy="2592360"/>
        </p:xfrm>
        <a:graphic>
          <a:graphicData uri="http://schemas.openxmlformats.org/drawingml/2006/table">
            <a:tbl>
              <a:tblPr/>
              <a:tblGrid>
                <a:gridCol w="4079880"/>
                <a:gridCol w="3338280"/>
                <a:gridCol w="126216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تأوي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تفسي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بيان معاني كلمات القرآن الكري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بيان معاني كلمات القرآن الكري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وجه الاتفا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بيان حقيقة الكلا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يستعمل في المعان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بيان الكلام المرا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يستعمل في الألفا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وجه الاختلا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